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214E-F565-4AE4-B2E4-C62CE0462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036D-F015-449C-87D7-F39887271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C9EC-E679-46D5-87DF-15A5DEE70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612C-4283-4C3A-AECD-DE5BE1658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CC3C-70CD-4141-BC8C-C62251D72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8C67-FC7E-4BBA-B586-83DE8FC98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643E-2324-4752-8154-B25FB3E34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8887-18E4-41B3-B6A6-C8B98270B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3CBD-8A12-4EE0-8915-6A84BB20F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E39E-B294-4F7D-868F-A5BAC21BA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E958-380B-4094-8BAF-898BD77EB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32B6-3552-48B6-8112-53E2A8CB92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05AA-D766-4284-89DA-6FD39D717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C2B1-AB81-4A3C-833A-C6445C2A7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7051-5399-41DD-807C-D123FAC61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FAC6-2FCB-41AC-8F98-7D1EB86EF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0725-E854-4189-9392-427D9D4AF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0120-57DD-4668-8307-B6198542F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0429-5745-41DE-A907-9BDF372A1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C3C9-0CCA-4628-8A39-E7E44E292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99C8-3AB3-41F6-8980-6303BA1B3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FD58-37E5-46DF-A6F7-4A5037F2F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6F3-85FD-415E-9B7D-9AE8D984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CA5-9794-4CFA-B089-7BA22C8F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BDE-A904-4E90-B243-CD1D0810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0D4-561B-4553-8FAA-2BEFAD86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05A-2092-48D3-BDD3-8D64BA73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760-82DA-4A05-93CF-7CC9C1D4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FB76-DE2E-42AC-B4CA-874DC409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40E-C942-46F5-8CC1-7A5EE235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6B7A-0079-46AF-9AF2-D8010550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DE6-2F73-4BC4-B8B8-A851C9B6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231-45A8-4F6E-A9BA-492F0356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926-D95B-4C91-8BF1-7318F7DF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FF6B-D0B3-4E3F-B769-E5BE3E74E2F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4.2/Hour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ire transfer, Takeover/opening of bank accou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bercriminals continue to rely on traditional banking ser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obviously particularly relevant in cases that involve extracting money from victim’s bank accou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ithin the traditional banking sector, what techniques can be used to obfuscate the sources of funds extracted from a victim’s bank accou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re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ictim bank accounts are compromised through various cybercrime techniques (e.g. phishing, malwar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w beneficiaries are added to the victim’s bank account and funds are transferred to mule accoun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nds are withdrawn in cash or transferred to other destin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s are made in small amounts to avoid reporting threshol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plex structures of meaningless transfers to mule accounts are used to obfuscate the source of fun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er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ontrols do financial institutions use to prevent the misuse of customer’s compromised online banking credenti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hallenges does cash present for cybercrimin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h Withdrawal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some instances of cybercrime, such as payment card-related crime, crime proceeds are immediately withdrawn in cas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other instances, crime proceeds from other types of crime are transferred to mule accounts, from which they are withdraw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it typically re-introduced to the financial system through a variety of techniques such a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 of pre-paid cards of various types (e.g. store credit, mobile phone credi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 of money mules or compromised bank accou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 Transfers, Takeover/Opening of 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Internet Payment Serv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ayment Servic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iminally obtained funds are transferred to an Internet Payment Service accou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 op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ternet Payment Service offers services similar to an online bank account, in which case typologies similar to “wire transfer/bank account creation or takover” are us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nds held with the Internet Payment Service are used to purchase products and services on the Interne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 Transfers, Takeover/Opening of 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ttance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s (both knowingly and without knowledge) are recruited as mules to the laundering scheme, often via “work at home” job off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e proceeds are transferred to the bank accounts of the mu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withdraws the cash and transfers the cash by wire transfer to a specific benefici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retains a payment as commission for performing this servic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s are usually of an amount lower than the reporting threshold, to avoid dete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ittance providers are used again to move the cash to its final destin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it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s have been identified where extensive use of particular remittance providers has raised concerns about possible collusion or infiltration of such busin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9-01T15:22:21Z</dcterms:modified>
  <cp:revision>313</cp:revision>
  <dc:subject/>
  <dc:title>PowerPoint Presentation</dc:title>
</cp:coreProperties>
</file>